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wmf" ContentType="image/x-wmf"/>
  <Override PartName="/ppt/media/image10.png" ContentType="image/png"/>
  <Override PartName="/ppt/media/image5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dt" idx="18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ftr" idx="19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 type="sldNum" idx="20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A1407E7-4A69-43F7-A0FE-40456E14015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7135CF9-C571-454F-B243-9A4A390200D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D1A91CA-2D71-4025-846A-15EB5BFCA77C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4EBF-2E83-4F89-80F3-B47E64ECA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A478-F34B-43F0-8224-2E3F23F5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8E6E7A-9ACE-4551-BCD9-4E0BE7EC817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2DA915-085F-4687-A934-4B60E3F2471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0BDF4C-6E32-4787-9B75-A5A71D1A65D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9AAF64-C19A-4351-A24B-62CA0631D80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35A516-13B5-4A57-B6D1-80819C56BE7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ABC162-04C7-4065-AE1E-286173E2D5F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00DD34-3948-4BBB-8144-6648399B994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DA4632-3991-424D-A178-F0B6CAEB5B5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48E752-14F8-424F-872C-2BDAB5A7511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067473-FA5B-4BEF-BBD8-D6EDE66656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DB85-7A1C-4B7C-9BCA-7315BE879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81D7BA-DD7B-4C63-9E22-55E3002543C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C1A504-7B10-4B20-95CF-527D1F89CBD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9F1186-7C3B-44DD-80B2-C425A0C0633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38C963-848E-4254-B80D-EDDB5EAED92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A4E485-2849-41E7-93D5-F5ADBA74E6C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B62A6B-F618-4F81-BDBB-5E88C22E2B4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9F5D63-440A-475D-AE63-3EB96CB8F7F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D19F99-688D-47E5-881F-20A34518DFC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8FE46C-707F-4094-96B3-BDE9A195B86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CEDE3C-713A-4905-8334-D11074DDB0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F729-745C-4487-B8F8-514C4E28A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B9A133-E095-467F-8440-9E7A0FB3C18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4181D-E682-440C-8686-03CC3BEA5FB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2FC42-784E-4FEA-9F50-5666818E2BC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206CF-A941-4F60-BCEE-D76FCAC7DEC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4C04B-F823-405B-9DF2-43BD1B297BA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FC916-04CD-4C7D-8B25-7699C0FC854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D8D3B-9F87-4DF3-A87F-DE72E16C278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2BA38-5F3B-4CD6-9DBA-7D221A40BC5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2A7F5-D798-4E4B-BF5C-C4D6142C410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9FE1B-2139-403D-87B4-5A041C475B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97A6C-D2F4-4E65-937D-CCFAD0FC76C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85080-E208-4485-BD7B-7AFDB53CDCD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ED4B9-14CE-4D1E-A8DC-897ACF5140A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330AA9-C4B2-407D-A383-B3808634016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6DF8B8-8568-40FA-BD64-E0EF80295AF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F103B9-D7DB-4518-A09B-666E2D745C9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D3D0C2-0D63-4B7A-9ABB-509FEE004E8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DC81FB-5409-483B-96C7-1636ECEFBB5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B0C6D9-8CAC-4835-8482-AFBDFCA14E9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596904-2ABF-4778-B1EE-7182B8E49C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8F8CFA-0C17-47C0-AADA-CC8AC919AF7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CCE7ED-1185-475F-AD4F-B6C0127EFA5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BC0D25-13B5-4F21-988D-2932EED92F6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1CBEA0-A482-45BE-A46F-721498492FD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76E107-C7B0-4E17-840E-9EA373FF62C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FE25C5-31D2-4520-810D-465589F101C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9B5BB8-B720-4D1E-A2BF-5E0B0896C53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17C2C8-F225-45F5-ADC4-42C29C986DE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4336AE-84F8-4AD7-BFDA-8FE2B40ECBF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C20AB0-3270-440F-BFF6-2DD20A2555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6C8832-AEA6-4795-BF96-7503427256A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5AA142-756A-4493-8A50-C1401CE42C8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4DBA16-8618-49B3-8D7F-43BAE58AEDD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8B5B47-8778-4B0C-9F7B-8677E572E7E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3B66CE-603D-4AE2-861D-ECFBB25EC61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21BD9C-2564-4DFC-9727-70EF948D7A0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2E549B-FA88-4923-81F9-FFB02AEBD0C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19540-A746-47CF-BFEE-5459327342B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D3883-D5E4-44BD-8711-8B01C09BC9C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0D245-D159-40E5-B000-71EBB81C5A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3B899-58D9-4370-8358-5367B0501A6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2D631-53AF-4153-80C4-DD394D8939A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2A308-E0F8-4440-8B07-49DF1BE49BD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C87CF-5BD7-4739-B7D3-173F5C82997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B32C7-C463-4059-A9F5-EBBBF10C532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6BADB-9247-4F68-B5ED-597035A8126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BDF86-C69E-4E55-9D95-F6D80A897AAC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C4EF7-CF51-47CF-8FAE-A63B5CEEC8A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CFC91-2275-4311-B961-4657989AB12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96B2D7-F201-4E6D-8980-FE680D37B1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71D021-FA6E-4F73-A771-6FD158BE78C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F9178C-9EE9-411F-97DB-EA4D88B59F5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073DEB-5C8B-456A-A3EE-8F88FC2D60E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F93BE4-82AD-4B57-910A-2AD666B6969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1AFB04-B78A-443C-AB01-A80BBBC67D6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BB60E0-97F4-448A-BDAE-94BCB646E67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5E0243-D87C-431A-A149-E1ABC572986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7140B2-BD94-4345-B87E-054440D7ABE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122D99-DBB1-467D-9CAF-B7E88178A8C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E7E242-3730-470F-AD73-59AD07BBDB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D3003E-23DE-4A6E-B3EC-15FBEE0B1AD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8FFA43-8069-4BB1-87B8-9B6FDE1B41B7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62344B-34A9-4E5D-8ED2-B97133D7DE9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C472F5-FAB8-42E4-A418-F5ECFDCE6302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2A620E-670F-4BEC-B502-28B063A5BD3B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6D8958-5C89-4292-BC0E-642761E422A3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1172F3-52AB-495D-80B8-AB87BEB1E574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50E196-D505-47BE-8C09-B6950FCDAB4E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629F86-4C3D-41AA-BA1E-24962F1DCC81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5FD621-A741-48B0-A92C-7A5369B49B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91B76A-F80E-4300-84C4-0B4C5C620925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94B3BA-1F4B-4173-8FE7-BC30F45154A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73727E-2B04-42FE-9C73-0B082836EB5C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5B58-E133-4DA5-9AD9-7C07EBA5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A39FA-30CE-41FA-819E-4C2C9B66947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750080-09FF-4926-93BA-61A9E18B2D4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7DE49-DB4D-44DF-A146-A840096BD63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C6B57-764E-4B46-A961-570E9274735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7ECE2-33D1-4BF9-9A91-274ED4E084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B8D1-9DDE-4499-8AE9-D30954A0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6FCCCB-428B-4A7A-92F6-C6310AD8F6C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B88004-B54B-4BD5-AF1A-653BB4F771A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43EFC-5B7E-491D-BD61-255E1A8496D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22BE9-9ED5-40E1-A5D0-AD15079159A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839F7F-D3F3-4896-A90B-B643CA40919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10A9C6-F31D-4DEA-93F3-9D5C3864EE0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71633-A068-4554-ADDA-8BBFA4B9572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43B63-3787-4BD5-8DED-1ED4994D53C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BEE92-2CF1-46C5-96D5-F62F187F622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8780D9-7ABE-48F6-9DD6-8534B30C1D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6228-5832-4CA0-BC08-3F802B18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A7B58-6C96-4619-9557-C315B8C0EFF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D1CE85-314A-4FCA-BD72-83E52DF2A61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6FA63-B24C-42BD-9922-325325B7EA0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9EF48-EBF3-4111-8E7B-CDAB7ED303E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B8164-AEFE-432D-A371-DEECC1357A9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A1A75-CA14-4FE5-AC24-851581D9FCD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244EEB-FC9D-4553-BA74-59184B8782B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5888D1-65D7-4520-9AB8-5F9ACEFC6AB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F56B0-BAB9-4493-9332-5026D459E8E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9806-445A-456A-8335-9403807CF0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E150-E176-4111-B8F8-8C1BC061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B4D5-D79E-45CA-9351-D9CE3BAD32C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05F5-0C3A-4242-AD18-C1E1E0832E6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F97E-7CB5-40DB-8445-D1FF1EE4255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BB61-2012-40EF-8EB6-4254C576808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756A-9AB6-48B1-B132-75A1C89F634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DC62-4F39-4BAA-990B-136C96EBB83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D71F-163C-44C6-ACE6-6D977D4404F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7DDE-68B5-4FA8-995F-4D4042D50BE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A295-005F-44C6-8F6A-5A31D377A59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7ED2-C5BC-4F74-A49D-BA3D1381B3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F48C-F89D-41A6-A828-479E3724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A030-544A-40F4-94BC-C6FF0EA613F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DCB0C2-EF05-46FF-A368-7E4F8DC62D6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149479-F003-4119-A3A6-CB6FA538068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42DD2D-47C9-44F1-A45E-9C1B6244A72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CDD1BD-94C1-4CFA-ADC1-C65BB88E7BC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8F3655-79DD-4BCC-B4FD-C03101EF573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0C73B3-51D6-4006-B6B5-F095B5A93FF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34B707-7F26-4BBF-A259-6416C1364FD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E30D31-704B-416B-86A7-3C4471DB2BB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66A3E0-ADC4-4C4F-98F6-0AB4897042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74B8-DFC4-4F80-9930-3D9A2798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45AB81-FD8E-4932-920A-1CFCE27FF6B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BFF913-A6EA-4166-933E-0BA84CB52AE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E7895D-EADB-414D-BC03-6822EA6C1AC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787F9D-2DA5-4FB1-A039-9E8DB044EAB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9664BB-2AF6-4AD4-9BA6-C83A069D135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952E10-19B4-4F6C-B8F3-98535EF4366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7C2FE9-8B16-474D-BF41-2200BD91004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D2BC67-9251-4247-AD0F-203D30B08A7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941FCC-C690-4B70-A636-32BFCF09D8F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EC515C-3FEE-4F4A-86FB-1E300F65EB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05FB-51BC-4357-9D3F-3C640444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7F1CB0-DD8E-4710-9562-5BF4F483B4A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17463F-8BC8-4A38-B485-08A2594ABF1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242D10-390A-482D-869A-4EA5B7D8C3D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BDCE30-B1B2-45C2-9387-AA41E246C2B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1ED428-8E7E-4A7B-A732-59E29FFEAAA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63C4C-DD46-4B34-9C5C-EFD80EFC236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19138-FC87-4488-A71A-B552536F685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33120-82D6-42AF-9BDC-2EA581543FC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BA4A9-0ABA-4233-99A5-83D2D84A8E6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DBCEF-5DB6-4E4B-B0AA-BFEEFE5A11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B4CC-4648-465E-B4D2-0960AB29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A2A81-2FA0-4C07-BB5E-7EBF937A1A0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0DCE6-A731-45A1-A3B6-EEEA37D92BB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C72CE-8D0B-406C-A100-25E95F45274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E2CD6-E399-4C7E-B249-14FD71E3EE6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797B7-4A05-426E-AE68-D42B90D789B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3EB3F-7C2E-41AF-B80D-529E61E69E3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E960B-4731-4AF4-B450-F5C71046C9E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E7F91C-ED86-4FF5-8140-F89D1E91549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7B4C09-9732-45A3-B83C-DDAE182FDFB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E82889-9A03-4EE3-8DA2-E6EA564EF1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32FF1E6-A5A6-41DD-B327-76E40F41E21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D19F3F0-6040-4308-A704-145DB2D658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6864C17-EF4F-4C61-8BDD-50D62EA377C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3336D7A-0DF7-4F55-AA07-873402907A6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E5E99DC-486E-4B1A-902C-6C1D55D6D47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6D05E95-56CC-4F2A-8ACA-ECC1E474294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633560F-F08B-4DE7-89AF-C9CDC769329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9561EF9-5723-46CA-A7D1-802B2A0F363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59D0B50-9B9B-47B9-AC98-629D8C8D767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90C31FE-9DE0-4B81-B678-668AEBA7EA2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6A99150-B987-4653-866F-96DDDE7FE51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BD6A652-4B05-4D72-A6C8-B0C417687BB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71DBC46-20F7-4086-A5A2-179F19864CB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E4791BB-06AB-4666-B4E4-EB30AEC432C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7EC9409-8E02-4E2F-B320-B7E6D4E1010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0857F7A-150D-4A88-8844-C01F8B3A915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2208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sagatavošanas seminārs </a:t>
            </a:r>
            <a:br>
              <a:rPr sz="2800"/>
            </a:b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30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šu pieteikumu sagatavošana un iesniegšana Espresso sistēm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238480" y="4300560"/>
            <a:ext cx="5829120" cy="666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2025. gada 27. augustā, plkst. 11:00 un 15: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42" name="Text Placeholder 3"/>
          <p:cNvSpPr/>
          <p:nvPr/>
        </p:nvSpPr>
        <p:spPr>
          <a:xfrm flipV="1" rot="10800000">
            <a:off x="3795840" y="5178600"/>
            <a:ext cx="4868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VIAA Izglītības atbalsta un starptautiskās sadarbības departamenta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60CFB83-364D-447C-981F-9435FCDEA7C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0b050"/>
                </a:solidFill>
                <a:latin typeface="Verdana"/>
                <a:ea typeface="Verdana"/>
              </a:rPr>
              <a:t>Par studiju vizītēm – jaunu projektu veidu Nordplus Jauniešu apakšprogrammā -  atsevišķs seminārs 28.08.25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Box 10"/>
          <p:cNvSpPr/>
          <p:nvPr/>
        </p:nvSpPr>
        <p:spPr>
          <a:xfrm>
            <a:off x="250920" y="3706920"/>
            <a:ext cx="346536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Calibri"/>
              </a:rPr>
              <a:t>https://www.viaa.gov.lv/lv/jaunums/notiks-tiessaistes-seminari-par-nordplus-2025-gada-studiju-vizisu-konkurs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Picture 2" descr=""/>
          <p:cNvPicPr/>
          <p:nvPr/>
        </p:nvPicPr>
        <p:blipFill>
          <a:blip r:embed="rId1"/>
          <a:stretch/>
        </p:blipFill>
        <p:spPr>
          <a:xfrm>
            <a:off x="3022560" y="2103480"/>
            <a:ext cx="581652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4" descr=""/>
          <p:cNvPicPr/>
          <p:nvPr/>
        </p:nvPicPr>
        <p:blipFill>
          <a:blip r:embed="rId1"/>
          <a:stretch/>
        </p:blipFill>
        <p:spPr>
          <a:xfrm>
            <a:off x="3179880" y="1238400"/>
            <a:ext cx="5816520" cy="5238720"/>
          </a:xfrm>
          <a:prstGeom prst="rect">
            <a:avLst/>
          </a:prstGeom>
          <a:ln w="0">
            <a:noFill/>
          </a:ln>
        </p:spPr>
      </p:pic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2768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epieciešams ievadīt informāciju par savu un partneru organizāciju 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ordplus datubāzē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(ja tās vēl nav reģistrētas datu bāzē!)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bām organizācijām sistēma ģenerē 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pliecinājuma vēstules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, kuras jāparaksta visu projektā iesaisīto organizāciju/iestāžu paraksttiesīgajām personām, jāieskanē un jāpievieno pieteikumam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DA50726-F0F1-42CC-ACB2-A72FC598721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1" name="Straight Arrow Connector 8"/>
          <p:cNvCxnSpPr/>
          <p:nvPr/>
        </p:nvCxnSpPr>
        <p:spPr>
          <a:xfrm flipV="1">
            <a:off x="3098520" y="2082960"/>
            <a:ext cx="1600920" cy="336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82" name="Straight Arrow Connector 10"/>
          <p:cNvCxnSpPr/>
          <p:nvPr/>
        </p:nvCxnSpPr>
        <p:spPr>
          <a:xfrm flipV="1">
            <a:off x="3098520" y="2082600"/>
            <a:ext cx="3005640" cy="673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83" name="Straight Arrow Connector 12"/>
          <p:cNvCxnSpPr/>
          <p:nvPr/>
        </p:nvCxnSpPr>
        <p:spPr>
          <a:xfrm flipV="1">
            <a:off x="2819160" y="2082240"/>
            <a:ext cx="4966200" cy="16038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784" name="Title 1"/>
          <p:cNvSpPr/>
          <p:nvPr/>
        </p:nvSpPr>
        <p:spPr>
          <a:xfrm>
            <a:off x="2590920" y="196920"/>
            <a:ext cx="60958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b7d91"/>
                </a:solidFill>
                <a:latin typeface="Verdana"/>
                <a:ea typeface="Verdana"/>
              </a:rPr>
              <a:t>Projektā iesaistītās organizācijas – koordinators un partne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Picture 4" descr=""/>
          <p:cNvPicPr/>
          <p:nvPr/>
        </p:nvPicPr>
        <p:blipFill>
          <a:blip r:embed="rId1"/>
          <a:stretch/>
        </p:blipFill>
        <p:spPr>
          <a:xfrm>
            <a:off x="4673520" y="3238560"/>
            <a:ext cx="3152880" cy="320364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2" descr=""/>
          <p:cNvPicPr/>
          <p:nvPr/>
        </p:nvPicPr>
        <p:blipFill>
          <a:blip r:embed="rId2"/>
          <a:stretch/>
        </p:blipFill>
        <p:spPr>
          <a:xfrm>
            <a:off x="3878280" y="-214200"/>
            <a:ext cx="5478480" cy="3171600"/>
          </a:xfrm>
          <a:prstGeom prst="rect">
            <a:avLst/>
          </a:prstGeom>
          <a:ln w="0">
            <a:noFill/>
          </a:ln>
        </p:spPr>
      </p:pic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3479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-17280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oteikti jāpārliecinās, vai partneru organizācija jau iepriekš nav reģistrēta Espresso sistēmā, ja nav, tad jāpievieno.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ngļu valodā jāizmanto tāds partneru organizācijas nosaukums, kādu organizācija lieto pati. 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Straight Arrow Connector 9"/>
          <p:cNvCxnSpPr/>
          <p:nvPr/>
        </p:nvCxnSpPr>
        <p:spPr>
          <a:xfrm flipV="1">
            <a:off x="2850840" y="1166400"/>
            <a:ext cx="4537800" cy="7689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789" name="Left Arrow 13"/>
          <p:cNvSpPr/>
          <p:nvPr/>
        </p:nvSpPr>
        <p:spPr>
          <a:xfrm rot="16200000">
            <a:off x="5375160" y="2305080"/>
            <a:ext cx="1666800" cy="355320"/>
          </a:xfrm>
          <a:prstGeom prst="leftArrow">
            <a:avLst>
              <a:gd name="adj1" fmla="val 50000"/>
              <a:gd name="adj2" fmla="val 54533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590560" y="196920"/>
            <a:ext cx="6095880" cy="776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Sagatavošanas vizītes apraks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itle 1"/>
          <p:cNvSpPr/>
          <p:nvPr/>
        </p:nvSpPr>
        <p:spPr>
          <a:xfrm>
            <a:off x="1128600" y="1914480"/>
            <a:ext cx="704232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Rokasgrāmata, 43. lpp (pdf),  sadaļa  «The Application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Picture 2" descr=""/>
          <p:cNvPicPr/>
          <p:nvPr/>
        </p:nvPicPr>
        <p:blipFill>
          <a:blip r:embed="rId1"/>
          <a:stretch/>
        </p:blipFill>
        <p:spPr>
          <a:xfrm>
            <a:off x="1128600" y="3162240"/>
            <a:ext cx="737568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Picture 2" descr=""/>
          <p:cNvPicPr/>
          <p:nvPr/>
        </p:nvPicPr>
        <p:blipFill>
          <a:blip r:embed="rId1"/>
          <a:stretch/>
        </p:blipFill>
        <p:spPr>
          <a:xfrm>
            <a:off x="2389320" y="919080"/>
            <a:ext cx="6254640" cy="5019840"/>
          </a:xfrm>
          <a:prstGeom prst="rect">
            <a:avLst/>
          </a:prstGeom>
          <a:ln w="0">
            <a:noFill/>
          </a:ln>
        </p:spPr>
      </p:pic>
      <p:sp>
        <p:nvSpPr>
          <p:cNvPr id="79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B79F028-16E7-4817-907F-A55841D6221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itle 1"/>
          <p:cNvSpPr/>
          <p:nvPr/>
        </p:nvSpPr>
        <p:spPr>
          <a:xfrm>
            <a:off x="0" y="1943280"/>
            <a:ext cx="223200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Īsi jāapraksta </a:t>
            </a:r>
            <a:r>
              <a:rPr b="1" lang="lv-LV" sz="1700" spc="-1" strike="noStrike">
                <a:solidFill>
                  <a:srgbClr val="002060"/>
                </a:solidFill>
                <a:latin typeface="Verdana"/>
              </a:rPr>
              <a:t>paredzamā  projekta iecer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Aprakstiem jābūt koncentrētiem -  un vienlaikus tiem jāsniedz skaidrs priekšstats gan par projekta ieceri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6" name="Straight Arrow Connector 12"/>
          <p:cNvCxnSpPr/>
          <p:nvPr/>
        </p:nvCxnSpPr>
        <p:spPr>
          <a:xfrm>
            <a:off x="1958760" y="2209320"/>
            <a:ext cx="3182040" cy="12358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7" descr=""/>
          <p:cNvPicPr/>
          <p:nvPr/>
        </p:nvPicPr>
        <p:blipFill>
          <a:blip r:embed="rId1"/>
          <a:srcRect l="0" t="6263" r="0" b="0"/>
          <a:stretch/>
        </p:blipFill>
        <p:spPr>
          <a:xfrm>
            <a:off x="3405240" y="933480"/>
            <a:ext cx="4903560" cy="4375080"/>
          </a:xfrm>
          <a:prstGeom prst="rect">
            <a:avLst/>
          </a:prstGeom>
          <a:ln w="0">
            <a:noFill/>
          </a:ln>
        </p:spPr>
      </p:pic>
      <p:sp>
        <p:nvSpPr>
          <p:cNvPr id="798" name="Title 1"/>
          <p:cNvSpPr/>
          <p:nvPr/>
        </p:nvSpPr>
        <p:spPr>
          <a:xfrm>
            <a:off x="0" y="1943280"/>
            <a:ext cx="2849400" cy="32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Jāapraksta </a:t>
            </a:r>
            <a:r>
              <a:rPr b="1" lang="lv-LV" sz="1800" spc="-1" strike="noStrike">
                <a:solidFill>
                  <a:srgbClr val="002060"/>
                </a:solidFill>
                <a:latin typeface="Verdana"/>
              </a:rPr>
              <a:t>vizītes darba kārtī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2060"/>
                </a:solidFill>
                <a:latin typeface="Verdana"/>
              </a:rPr>
              <a:t>Vizītes darba kārtībai jābalstās uz projekta pieteikuma plānošanu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(mērķi, uzdevumi, rezultāti, norise…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Picture 2" descr=""/>
          <p:cNvPicPr/>
          <p:nvPr/>
        </p:nvPicPr>
        <p:blipFill>
          <a:blip r:embed="rId1"/>
          <a:srcRect l="0" t="8694" r="0" b="0"/>
          <a:stretch/>
        </p:blipFill>
        <p:spPr>
          <a:xfrm>
            <a:off x="3948120" y="549360"/>
            <a:ext cx="4456080" cy="3079800"/>
          </a:xfrm>
          <a:prstGeom prst="rect">
            <a:avLst/>
          </a:prstGeom>
          <a:ln w="0">
            <a:noFill/>
          </a:ln>
        </p:spPr>
      </p:pic>
      <p:sp>
        <p:nvSpPr>
          <p:cNvPr id="800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FA3FFD3-36AF-4E33-ADF8-EAA72384262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1" name="Straight Arrow Connector 9"/>
          <p:cNvCxnSpPr/>
          <p:nvPr/>
        </p:nvCxnSpPr>
        <p:spPr>
          <a:xfrm flipH="1">
            <a:off x="4258800" y="2095200"/>
            <a:ext cx="16560" cy="2265840"/>
          </a:xfrm>
          <a:prstGeom prst="straightConnector1">
            <a:avLst/>
          </a:prstGeom>
          <a:ln w="3816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2" name="Title 1"/>
          <p:cNvSpPr/>
          <p:nvPr/>
        </p:nvSpPr>
        <p:spPr>
          <a:xfrm>
            <a:off x="0" y="1943280"/>
            <a:ext cx="308628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Jāieraksta dati – apmeklējamā valsts,  braucēju skaits (maks.2 personas)  un brauciena ilgums (maks. 5 dienas, ieskaitot ceļ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Picture 8" descr=""/>
          <p:cNvPicPr/>
          <p:nvPr/>
        </p:nvPicPr>
        <p:blipFill>
          <a:blip r:embed="rId2"/>
          <a:stretch/>
        </p:blipFill>
        <p:spPr>
          <a:xfrm>
            <a:off x="3208320" y="4361040"/>
            <a:ext cx="38289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4" descr=""/>
          <p:cNvPicPr/>
          <p:nvPr/>
        </p:nvPicPr>
        <p:blipFill>
          <a:blip r:embed="rId1"/>
          <a:srcRect l="0" t="0" r="0" b="76419"/>
          <a:stretch/>
        </p:blipFill>
        <p:spPr>
          <a:xfrm>
            <a:off x="4597560" y="4807080"/>
            <a:ext cx="3828960" cy="720720"/>
          </a:xfrm>
          <a:prstGeom prst="rect">
            <a:avLst/>
          </a:prstGeom>
          <a:ln w="0">
            <a:noFill/>
          </a:ln>
        </p:spPr>
      </p:pic>
      <p:sp>
        <p:nvSpPr>
          <p:cNvPr id="805" name="Title 1"/>
          <p:cNvSpPr/>
          <p:nvPr/>
        </p:nvSpPr>
        <p:spPr>
          <a:xfrm>
            <a:off x="0" y="1943280"/>
            <a:ext cx="22320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eprasīto budžetu sistēma aprēķina automātisk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itle 1"/>
          <p:cNvSpPr/>
          <p:nvPr/>
        </p:nvSpPr>
        <p:spPr>
          <a:xfrm>
            <a:off x="100080" y="4184640"/>
            <a:ext cx="344808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Obligāti jāpievieno partneru apliecinājuma vēstules (tai skaitā arī no savas organizācijas)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7" name="Straight Arrow Connector 6"/>
          <p:cNvCxnSpPr/>
          <p:nvPr/>
        </p:nvCxnSpPr>
        <p:spPr>
          <a:xfrm>
            <a:off x="2827440" y="4327200"/>
            <a:ext cx="1745280" cy="6260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808" name="Picture 2" descr=""/>
          <p:cNvPicPr/>
          <p:nvPr/>
        </p:nvPicPr>
        <p:blipFill>
          <a:blip r:embed="rId2"/>
          <a:srcRect l="0" t="15722" r="0" b="0"/>
          <a:stretch/>
        </p:blipFill>
        <p:spPr>
          <a:xfrm>
            <a:off x="2749680" y="2050920"/>
            <a:ext cx="567684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itle 1"/>
          <p:cNvSpPr/>
          <p:nvPr/>
        </p:nvSpPr>
        <p:spPr>
          <a:xfrm>
            <a:off x="0" y="1943280"/>
            <a:ext cx="2476440" cy="42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Iespēja aplūkot/lejuplādēt projekta pieteikum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Verdana"/>
              </a:rPr>
              <a:t>Atgādinājums par   prasībām, kuras neievērojot, pieteikums netiks izskatīts</a:t>
            </a: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(vismaz 2 organizācijas no 2 dažādām valstīm; apliecinājuma vēstules no katras iesaistītās organizācija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0" name="Straight Arrow Connector 8"/>
          <p:cNvCxnSpPr/>
          <p:nvPr/>
        </p:nvCxnSpPr>
        <p:spPr>
          <a:xfrm>
            <a:off x="1714320" y="2827440"/>
            <a:ext cx="1410120" cy="10166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11" name="Straight Arrow Connector 11"/>
          <p:cNvCxnSpPr/>
          <p:nvPr/>
        </p:nvCxnSpPr>
        <p:spPr>
          <a:xfrm>
            <a:off x="2095200" y="5024160"/>
            <a:ext cx="76284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812" name="Picture 2" descr=""/>
          <p:cNvPicPr/>
          <p:nvPr/>
        </p:nvPicPr>
        <p:blipFill>
          <a:blip r:embed="rId1"/>
          <a:srcRect l="0" t="9362" r="0" b="0"/>
          <a:stretch/>
        </p:blipFill>
        <p:spPr>
          <a:xfrm>
            <a:off x="3124080" y="2827440"/>
            <a:ext cx="5639040" cy="28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E5D9880-93FA-42E1-9A97-7475A1C3176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itle 1"/>
          <p:cNvSpPr/>
          <p:nvPr/>
        </p:nvSpPr>
        <p:spPr>
          <a:xfrm>
            <a:off x="0" y="1943280"/>
            <a:ext cx="233208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! Ja sagatavošanas vizītes pieteikums tiks atbalstīts, šie bankas rekvizīti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tiks ietverti līgumā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un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uz norādīto kontu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tiks pārskaitīts piešķirtais finansējums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Pie bankas rekvizītiem – «Your reference» ir organizācijas iekšējais identifikators (ja tāds ir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Picture 1" descr=""/>
          <p:cNvPicPr/>
          <p:nvPr/>
        </p:nvPicPr>
        <p:blipFill>
          <a:blip r:embed="rId1"/>
          <a:stretch/>
        </p:blipFill>
        <p:spPr>
          <a:xfrm>
            <a:off x="2604960" y="895320"/>
            <a:ext cx="5762880" cy="5429160"/>
          </a:xfrm>
          <a:prstGeom prst="rect">
            <a:avLst/>
          </a:prstGeom>
          <a:ln w="0">
            <a:noFill/>
          </a:ln>
        </p:spPr>
      </p:pic>
      <p:cxnSp>
        <p:nvCxnSpPr>
          <p:cNvPr id="816" name="Straight Arrow Connector 2"/>
          <p:cNvCxnSpPr/>
          <p:nvPr/>
        </p:nvCxnSpPr>
        <p:spPr>
          <a:xfrm>
            <a:off x="2158560" y="4808160"/>
            <a:ext cx="57708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am ir jābūt zināmam  sagatavošanas vizītes pieteikuma iesniegšanas brīdī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2012760" y="1775880"/>
            <a:ext cx="6870600" cy="4316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Kādā apakšprogrammā (</a:t>
            </a:r>
            <a:r>
              <a:rPr b="0" i="1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Junior, Adult, Nordic Languages</a:t>
            </a: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) paredzēts iesniegt projekt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Kas būs projekta partneri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Projekta ideja – ko un kāpēc plānots darīt, kādi būs iespējamie rezultāti un ietek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s paredzamā darba kārtīb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Title 1"/>
          <p:cNvSpPr/>
          <p:nvPr/>
        </p:nvSpPr>
        <p:spPr>
          <a:xfrm>
            <a:off x="106200" y="2120760"/>
            <a:ext cx="2476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rms iesniegšanas sistēma pārbauda, vai ir aizpildītas visas pieteikuma sadaļas un nepieļauj iesniegt daļēji aizpildītu pieteikum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8" name="Picture 2" descr=""/>
          <p:cNvPicPr/>
          <p:nvPr/>
        </p:nvPicPr>
        <p:blipFill>
          <a:blip r:embed="rId1"/>
          <a:stretch/>
        </p:blipFill>
        <p:spPr>
          <a:xfrm>
            <a:off x="2583000" y="1582560"/>
            <a:ext cx="622764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 txBox="1"/>
          <p:nvPr/>
        </p:nvSpPr>
        <p:spPr>
          <a:xfrm>
            <a:off x="1587240" y="104940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000" spc="-1" strike="noStrike">
                <a:solidFill>
                  <a:srgbClr val="0b7d91"/>
                </a:solidFill>
                <a:latin typeface="Calibri"/>
                <a:ea typeface="Verdana"/>
              </a:rPr>
              <a:t>Jautājumu gadījumā lūdzu sazināt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19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19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19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1900" spc="-1" strike="noStrike">
                <a:solidFill>
                  <a:srgbClr val="0b7d91"/>
                </a:solidFill>
                <a:latin typeface="Arial"/>
                <a:ea typeface="Verdana"/>
              </a:rPr>
              <a:t>tālr.  29554403 (GSM, WhatsApp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1900" spc="-1" strike="noStrike">
                <a:solidFill>
                  <a:srgbClr val="0b7d91"/>
                </a:solidFill>
                <a:latin typeface="Arial"/>
                <a:ea typeface="Verdana"/>
              </a:rPr>
              <a:t>linards.deidulis@viaa.gov.lv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1900" spc="-1" strike="noStrike">
                <a:solidFill>
                  <a:srgbClr val="0b7d91"/>
                </a:solidFill>
                <a:latin typeface="Arial"/>
                <a:ea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19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1900" spc="-1" strike="noStrike">
                <a:solidFill>
                  <a:srgbClr val="0b7d91"/>
                </a:solidFill>
                <a:latin typeface="Arial"/>
                <a:ea typeface="Verdana"/>
              </a:rPr>
              <a:t>Frank Krohn: frank.krohn@hkdir.no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1900" spc="-1" strike="noStrike">
                <a:solidFill>
                  <a:srgbClr val="ff0000"/>
                </a:solidFill>
                <a:latin typeface="Calibri"/>
                <a:ea typeface="Verdana"/>
              </a:rPr>
              <a:t>VIAA sagatavotajiem materiāliem latviešu valodā ir </a:t>
            </a:r>
            <a:r>
              <a:rPr b="1" lang="lv-LV" sz="1900" spc="-1" strike="noStrike" u="sng">
                <a:solidFill>
                  <a:srgbClr val="ff0000"/>
                </a:solidFill>
                <a:uFillTx/>
                <a:latin typeface="Calibri"/>
                <a:ea typeface="Verdana"/>
              </a:rPr>
              <a:t>informatīvs un paskaidrojošs raksturs</a:t>
            </a:r>
            <a:r>
              <a:rPr b="1" lang="lv-LV" sz="1900" spc="-1" strike="noStrike">
                <a:solidFill>
                  <a:srgbClr val="ff0000"/>
                </a:solidFill>
                <a:latin typeface="Calibri"/>
                <a:ea typeface="Verdana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Projektu pieteicējiem ir saistoši dokumenti, kas publicēti angļu valodā  </a:t>
            </a: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Verdana"/>
              </a:rPr>
              <a:t>www.nordplusonline.org un norādījumi projekta pieteikuma veidlapā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Vispārīgā informā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7" name="Content Placeholder 1" descr=""/>
          <p:cNvPicPr/>
          <p:nvPr/>
        </p:nvPicPr>
        <p:blipFill>
          <a:blip r:embed="rId1"/>
          <a:stretch/>
        </p:blipFill>
        <p:spPr>
          <a:xfrm>
            <a:off x="2901960" y="1695600"/>
            <a:ext cx="5907240" cy="407196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2" descr=""/>
          <p:cNvPicPr/>
          <p:nvPr/>
        </p:nvPicPr>
        <p:blipFill>
          <a:blip r:embed="rId2"/>
          <a:stretch/>
        </p:blipFill>
        <p:spPr>
          <a:xfrm>
            <a:off x="5924520" y="3772080"/>
            <a:ext cx="3156120" cy="957240"/>
          </a:xfrm>
          <a:prstGeom prst="rect">
            <a:avLst/>
          </a:prstGeom>
          <a:ln w="0">
            <a:noFill/>
          </a:ln>
        </p:spPr>
      </p:pic>
      <p:sp>
        <p:nvSpPr>
          <p:cNvPr id="749" name="Title 1"/>
          <p:cNvSpPr/>
          <p:nvPr/>
        </p:nvSpPr>
        <p:spPr>
          <a:xfrm>
            <a:off x="-165240" y="2860560"/>
            <a:ext cx="301644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Iesniegums jāsagatavo un jāiesniedz tiešsaistē,   aizpildot elektronisko pieteikuma veidlap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 txBox="1"/>
          <p:nvPr/>
        </p:nvSpPr>
        <p:spPr>
          <a:xfrm>
            <a:off x="388440" y="1635120"/>
            <a:ext cx="858708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r>
              <a:rPr b="0" lang="lv-LV" sz="2800" spc="-1" strike="noStrike">
                <a:solidFill>
                  <a:srgbClr val="002060"/>
                </a:solidFill>
                <a:latin typeface="Verdana"/>
                <a:ea typeface="Verdana"/>
              </a:rPr>
              <a:t>Espresso sistēma - </a:t>
            </a:r>
            <a:r>
              <a:rPr b="0" lang="lv-LV" sz="2800" spc="-1" strike="noStrike">
                <a:solidFill>
                  <a:srgbClr val="000000"/>
                </a:solidFill>
                <a:latin typeface="Verdana"/>
                <a:ea typeface="Verdana"/>
              </a:rPr>
              <a:t>https://espresso.hkdir.no</a:t>
            </a:r>
            <a:r>
              <a:rPr b="0" lang="lv-LV" sz="2500" spc="-1" strike="noStrike">
                <a:solidFill>
                  <a:srgbClr val="000000"/>
                </a:solidFill>
                <a:latin typeface="Verdana"/>
                <a:ea typeface="Verdana"/>
              </a:rPr>
              <a:t>/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1" name="Picture 2" descr=""/>
          <p:cNvPicPr/>
          <p:nvPr/>
        </p:nvPicPr>
        <p:blipFill>
          <a:blip r:embed="rId1"/>
          <a:stretch/>
        </p:blipFill>
        <p:spPr>
          <a:xfrm>
            <a:off x="517680" y="2470320"/>
            <a:ext cx="7702560" cy="3295440"/>
          </a:xfrm>
          <a:prstGeom prst="rect">
            <a:avLst/>
          </a:prstGeom>
          <a:ln w="0">
            <a:noFill/>
          </a:ln>
        </p:spPr>
      </p:pic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Left Arrow 6"/>
          <p:cNvSpPr/>
          <p:nvPr/>
        </p:nvSpPr>
        <p:spPr>
          <a:xfrm rot="1692600">
            <a:off x="5667120" y="4839840"/>
            <a:ext cx="1720800" cy="552600"/>
          </a:xfrm>
          <a:prstGeom prst="leftArrow">
            <a:avLst>
              <a:gd name="adj1" fmla="val 50000"/>
              <a:gd name="adj2" fmla="val 5448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2012760" y="1393560"/>
            <a:ext cx="6870600" cy="742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3200" spc="-1" strike="noStrike">
                <a:solidFill>
                  <a:srgbClr val="1f4e79"/>
                </a:solidFill>
                <a:latin typeface="Calibri"/>
                <a:ea typeface="Verdana"/>
              </a:rPr>
              <a:t>https://espresso.dik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6" name="Picture 1" descr=""/>
          <p:cNvPicPr/>
          <p:nvPr/>
        </p:nvPicPr>
        <p:blipFill>
          <a:blip r:embed="rId1"/>
          <a:srcRect l="0" t="24891" r="0" b="0"/>
          <a:stretch/>
        </p:blipFill>
        <p:spPr>
          <a:xfrm>
            <a:off x="4025880" y="4721400"/>
            <a:ext cx="4660920" cy="20412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"/>
          <p:cNvPicPr/>
          <p:nvPr/>
        </p:nvPicPr>
        <p:blipFill>
          <a:blip r:embed="rId2"/>
          <a:stretch/>
        </p:blipFill>
        <p:spPr>
          <a:xfrm>
            <a:off x="2660760" y="2238480"/>
            <a:ext cx="4916520" cy="2036520"/>
          </a:xfrm>
          <a:prstGeom prst="rect">
            <a:avLst/>
          </a:prstGeom>
          <a:ln w="0">
            <a:noFill/>
          </a:ln>
        </p:spPr>
      </p:pic>
      <p:cxnSp>
        <p:nvCxnSpPr>
          <p:cNvPr id="758" name="Straight Arrow Connector 4"/>
          <p:cNvCxnSpPr/>
          <p:nvPr/>
        </p:nvCxnSpPr>
        <p:spPr>
          <a:xfrm>
            <a:off x="5638320" y="3633840"/>
            <a:ext cx="1080" cy="127080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Picture 2" descr=""/>
          <p:cNvPicPr/>
          <p:nvPr/>
        </p:nvPicPr>
        <p:blipFill>
          <a:blip r:embed="rId1"/>
          <a:stretch/>
        </p:blipFill>
        <p:spPr>
          <a:xfrm>
            <a:off x="0" y="1882800"/>
            <a:ext cx="9144000" cy="3924360"/>
          </a:xfrm>
          <a:prstGeom prst="rect">
            <a:avLst/>
          </a:prstGeom>
          <a:ln w="0">
            <a:noFill/>
          </a:ln>
        </p:spPr>
      </p:pic>
      <p:sp>
        <p:nvSpPr>
          <p:cNvPr id="761" name="Left Arrow 6"/>
          <p:cNvSpPr/>
          <p:nvPr/>
        </p:nvSpPr>
        <p:spPr>
          <a:xfrm rot="8365800">
            <a:off x="1991880" y="6081840"/>
            <a:ext cx="3019320" cy="529920"/>
          </a:xfrm>
          <a:prstGeom prst="leftArrow">
            <a:avLst>
              <a:gd name="adj1" fmla="val 50000"/>
              <a:gd name="adj2" fmla="val 54524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091960" y="415440"/>
            <a:ext cx="6095880" cy="776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Izvēlamies apakšprogrammu, kurā iesniegsim sagatavošanas vizītes pieteikum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4" name="Picture 3" descr=""/>
          <p:cNvPicPr/>
          <p:nvPr/>
        </p:nvPicPr>
        <p:blipFill>
          <a:blip r:embed="rId2"/>
          <a:stretch/>
        </p:blipFill>
        <p:spPr>
          <a:xfrm>
            <a:off x="77760" y="1814400"/>
            <a:ext cx="914400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D0E4B63-4B48-4AA6-B2A9-2F071AA9689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-360" y="1942920"/>
            <a:ext cx="2590920" cy="228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esniegums jāsagatavo un jāiesniedz tiešsaistē,   aizpildot elektronisko pieteikuma veidlapu.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7" name="Picture 2" descr=""/>
          <p:cNvPicPr/>
          <p:nvPr/>
        </p:nvPicPr>
        <p:blipFill>
          <a:blip r:embed="rId1"/>
          <a:stretch/>
        </p:blipFill>
        <p:spPr>
          <a:xfrm>
            <a:off x="2495520" y="237960"/>
            <a:ext cx="608976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B20E148-E69B-468D-8822-BE6524677C3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-360" y="1942920"/>
            <a:ext cx="2801880" cy="1485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zvēlamies projekta veidu – šajā gadījumā – 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sagatavošanas vizīti («Preparatory visit») .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0" name="Picture 7" descr="A screenshot of a computer&#10;&#10;Description automatically generated"/>
          <p:cNvPicPr/>
          <p:nvPr/>
        </p:nvPicPr>
        <p:blipFill>
          <a:blip r:embed="rId1"/>
          <a:srcRect l="8189" t="15003" r="56997" b="25478"/>
          <a:stretch/>
        </p:blipFill>
        <p:spPr>
          <a:xfrm>
            <a:off x="3143160" y="228600"/>
            <a:ext cx="5391360" cy="5761080"/>
          </a:xfrm>
          <a:prstGeom prst="rect">
            <a:avLst/>
          </a:prstGeom>
          <a:ln w="0">
            <a:noFill/>
          </a:ln>
        </p:spPr>
      </p:pic>
      <p:cxnSp>
        <p:nvCxnSpPr>
          <p:cNvPr id="771" name="Straight Arrow Connector 9"/>
          <p:cNvCxnSpPr/>
          <p:nvPr/>
        </p:nvCxnSpPr>
        <p:spPr>
          <a:xfrm>
            <a:off x="2090520" y="3230640"/>
            <a:ext cx="1532520" cy="169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772" name="Title 1"/>
          <p:cNvSpPr/>
          <p:nvPr/>
        </p:nvSpPr>
        <p:spPr>
          <a:xfrm>
            <a:off x="54000" y="4772160"/>
            <a:ext cx="203688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 algn="ctr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!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 Studiju vizīte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r </a:t>
            </a: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cits projektu veids (seminārs 28.08.25.)</a:t>
            </a:r>
            <a:br>
              <a:rPr sz="1600"/>
            </a:br>
            <a:r>
              <a:rPr b="0" lang="lv-LV" sz="1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3" name="Straight Arrow Connector 12"/>
          <p:cNvCxnSpPr/>
          <p:nvPr/>
        </p:nvCxnSpPr>
        <p:spPr>
          <a:xfrm>
            <a:off x="1662120" y="5106600"/>
            <a:ext cx="1961280" cy="83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24-09-17T09:25:17Z</cp:lastPrinted>
  <dcterms:modified xsi:type="dcterms:W3CDTF">2025-08-27T10:52:01Z</dcterms:modified>
  <cp:revision>189</cp:revision>
  <dc:subject/>
  <dc:title>PowerPoint Presentation</dc:title>
</cp:coreProperties>
</file>